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1211580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1280" y="5793840"/>
            <a:ext cx="1211580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31280" y="579384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480" y="579384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27720" y="163476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624160" y="163476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1280" y="579384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527720" y="579384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624160" y="579384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31280" y="1634760"/>
            <a:ext cx="1211580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1211580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31280" y="23760"/>
            <a:ext cx="12115800" cy="74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31280" y="579384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31280" y="1634760"/>
            <a:ext cx="1211580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480" y="579384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1280" y="5793840"/>
            <a:ext cx="1211580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1211580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1280" y="5793840"/>
            <a:ext cx="1211580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1280" y="579384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480" y="579384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27720" y="163476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624160" y="163476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31280" y="579384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527720" y="579384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624160" y="579384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31280" y="1634760"/>
            <a:ext cx="1211580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1211580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1211580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31280" y="23760"/>
            <a:ext cx="12115800" cy="74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31280" y="579384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9480" y="579384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31280" y="5793840"/>
            <a:ext cx="1211580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1211580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1280" y="5793840"/>
            <a:ext cx="1211580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31280" y="579384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9480" y="579384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27720" y="163476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624160" y="163476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31280" y="579384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527720" y="579384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624160" y="579384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31280" y="1634760"/>
            <a:ext cx="1211580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1211580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31280" y="23760"/>
            <a:ext cx="12115800" cy="74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31280" y="579384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39480" y="579384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31280" y="5793840"/>
            <a:ext cx="1211580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1211580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31280" y="5793840"/>
            <a:ext cx="1211580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31280" y="579384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39480" y="579384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27720" y="163476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624160" y="163476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31280" y="579384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527720" y="579384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624160" y="579384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31280" y="1634760"/>
            <a:ext cx="1211580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1211580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31280" y="23760"/>
            <a:ext cx="12115800" cy="74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31280" y="579384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39480" y="579384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31280" y="5793840"/>
            <a:ext cx="1211580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1211580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31280" y="5793840"/>
            <a:ext cx="1211580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31280" y="579384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39480" y="579384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31280" y="23760"/>
            <a:ext cx="12115800" cy="74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27720" y="163476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624160" y="163476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31280" y="579384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527720" y="579384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624160" y="579384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31280" y="1634760"/>
            <a:ext cx="1211580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1211580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31280" y="23760"/>
            <a:ext cx="12115800" cy="74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31280" y="579384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39480" y="579384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31280" y="5793840"/>
            <a:ext cx="1211580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31280" y="579384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1211580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31280" y="5793840"/>
            <a:ext cx="1211580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31280" y="579384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39480" y="579384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27720" y="163476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624160" y="163476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31280" y="579384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527720" y="579384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624160" y="579384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31280" y="1634760"/>
            <a:ext cx="1211580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1211580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31280" y="23760"/>
            <a:ext cx="12115800" cy="74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1280" y="579384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480" y="579384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39480" y="579384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31280" y="5793840"/>
            <a:ext cx="1211580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1211580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31280" y="5793840"/>
            <a:ext cx="1211580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31280" y="579384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639480" y="579384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27720" y="163476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624160" y="163476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31280" y="579384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527720" y="579384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624160" y="5793840"/>
            <a:ext cx="390096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480" y="1634760"/>
            <a:ext cx="591228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1280" y="5793840"/>
            <a:ext cx="12115800" cy="379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1280" y="1634760"/>
            <a:ext cx="1211580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1272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1" marL="968400" indent="-30816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2" marL="131112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3" marL="166680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4" marL="202248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5" marL="202248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6" marL="202248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31280" y="1634760"/>
            <a:ext cx="1211580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1272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1" marL="968400" indent="-30816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2" marL="131112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3" marL="166680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4" marL="202248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5" marL="202248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6" marL="202248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31280" y="1634760"/>
            <a:ext cx="1211580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1272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1" marL="968400" indent="-30816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2" marL="131112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3" marL="166680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4" marL="202248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5" marL="202248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6" marL="202248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31280" y="1634760"/>
            <a:ext cx="1211580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1272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1" marL="968400" indent="-30816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2" marL="131112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3" marL="166680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4" marL="202248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5" marL="202248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6" marL="202248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31280" y="1634760"/>
            <a:ext cx="1211580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1272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1" marL="968400" indent="-30816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2" marL="131112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3" marL="166680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4" marL="202248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5" marL="202248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6" marL="202248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31280" y="1634760"/>
            <a:ext cx="1211580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1272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1" marL="968400" indent="-30816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2" marL="131112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3" marL="166680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4" marL="202248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5" marL="202248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6" marL="202248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31280" y="1634760"/>
            <a:ext cx="1211580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1272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1" marL="968400" indent="-30816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2" marL="131112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3" marL="166680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4" marL="202248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5" marL="202248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6" marL="2022480" indent="-307800"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3f3f3f"/>
                </a:solidFill>
                <a:latin typeface="Herculanum"/>
              </a:rPr>
              <a:t>Bronsted-Lowry Acids &amp; Bases</a:t>
            </a: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1211580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89040" indent="-30816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153684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Palatino"/>
              </a:rPr>
              <a:t>Used because Arrhenius isn’t very detailed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marL="689040" indent="-30816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153684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Palatino"/>
              </a:rPr>
              <a:t>Defines acids as H</a:t>
            </a:r>
            <a:r>
              <a:rPr b="0" lang="en-US" sz="3800" spc="-1" strike="noStrike" baseline="31000">
                <a:solidFill>
                  <a:srgbClr val="000000"/>
                </a:solidFill>
                <a:latin typeface="Palatino"/>
              </a:rPr>
              <a:t>+</a:t>
            </a:r>
            <a:r>
              <a:rPr b="0" lang="en-US" sz="3800" spc="-1" strike="noStrike">
                <a:solidFill>
                  <a:srgbClr val="000000"/>
                </a:solidFill>
                <a:latin typeface="Palatino"/>
              </a:rPr>
              <a:t> donors and a base as a H</a:t>
            </a:r>
            <a:r>
              <a:rPr b="0" lang="en-US" sz="3800" spc="-1" strike="noStrike" baseline="31000">
                <a:solidFill>
                  <a:srgbClr val="000000"/>
                </a:solidFill>
                <a:latin typeface="Palatino"/>
              </a:rPr>
              <a:t>+</a:t>
            </a:r>
            <a:r>
              <a:rPr b="0" lang="en-US" sz="3800" spc="-1" strike="noStrike">
                <a:solidFill>
                  <a:srgbClr val="000000"/>
                </a:solidFill>
                <a:latin typeface="Palatino"/>
              </a:rPr>
              <a:t> acceptor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3f3f3f"/>
                </a:solidFill>
                <a:latin typeface="Herculanum"/>
              </a:rPr>
              <a:t>Conjugate Acids &amp; Bases</a:t>
            </a: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1211580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89040" indent="-30816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153684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Palatino"/>
              </a:rPr>
              <a:t>NH</a:t>
            </a:r>
            <a:r>
              <a:rPr b="0" lang="en-US" sz="3800" spc="-1" strike="noStrike" baseline="-22000">
                <a:solidFill>
                  <a:srgbClr val="000000"/>
                </a:solidFill>
                <a:latin typeface="Palatino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Palatino"/>
              </a:rPr>
              <a:t> + H</a:t>
            </a:r>
            <a:r>
              <a:rPr b="0" lang="en-US" sz="3800" spc="-1" strike="noStrike" baseline="-22000">
                <a:solidFill>
                  <a:srgbClr val="000000"/>
                </a:solidFill>
                <a:latin typeface="Palatino"/>
              </a:rPr>
              <a:t>2</a:t>
            </a:r>
            <a:r>
              <a:rPr b="0" lang="en-US" sz="3800" spc="-1" strike="noStrike">
                <a:solidFill>
                  <a:srgbClr val="000000"/>
                </a:solidFill>
                <a:latin typeface="Palatino"/>
              </a:rPr>
              <a:t>O --&gt; NH</a:t>
            </a:r>
            <a:r>
              <a:rPr b="0" lang="en-US" sz="3800" spc="-1" strike="noStrike" baseline="-22000">
                <a:solidFill>
                  <a:srgbClr val="000000"/>
                </a:solidFill>
                <a:latin typeface="Palatino"/>
              </a:rPr>
              <a:t>4</a:t>
            </a:r>
            <a:r>
              <a:rPr b="0" lang="en-US" sz="3800" spc="-1" strike="noStrike" baseline="31000">
                <a:solidFill>
                  <a:srgbClr val="000000"/>
                </a:solidFill>
                <a:latin typeface="Palatino"/>
              </a:rPr>
              <a:t>+</a:t>
            </a:r>
            <a:r>
              <a:rPr b="0" lang="en-US" sz="3800" spc="-1" strike="noStrike">
                <a:solidFill>
                  <a:srgbClr val="000000"/>
                </a:solidFill>
                <a:latin typeface="Palatino"/>
              </a:rPr>
              <a:t> + OH</a:t>
            </a:r>
            <a:r>
              <a:rPr b="0" lang="en-US" sz="3800" spc="-1" strike="noStrike" baseline="31000">
                <a:solidFill>
                  <a:srgbClr val="000000"/>
                </a:solidFill>
                <a:latin typeface="Palatino"/>
              </a:rPr>
              <a:t>-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marL="689040" indent="-30816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153684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Palatino"/>
              </a:rPr>
              <a:t>base + acid --&gt; conj acid + conj base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3f3f3f"/>
                </a:solidFill>
                <a:latin typeface="Herculanum"/>
              </a:rPr>
              <a:t>practice</a:t>
            </a: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1211580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50880" indent="-307800">
              <a:lnSpc>
                <a:spcPct val="100000"/>
              </a:lnSpc>
              <a:spcBef>
                <a:spcPts val="3600"/>
              </a:spcBef>
              <a:buClr>
                <a:srgbClr val="000000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Palatino"/>
              </a:rPr>
              <a:t>H</a:t>
            </a:r>
            <a:r>
              <a:rPr b="0" lang="en-US" sz="3800" spc="-1" strike="noStrike" baseline="-20000">
                <a:solidFill>
                  <a:srgbClr val="000000"/>
                </a:solidFill>
                <a:latin typeface="Palatino"/>
              </a:rPr>
              <a:t>2</a:t>
            </a:r>
            <a:r>
              <a:rPr b="0" lang="en-US" sz="3800" spc="-1" strike="noStrike">
                <a:solidFill>
                  <a:srgbClr val="000000"/>
                </a:solidFill>
                <a:latin typeface="Palatino"/>
              </a:rPr>
              <a:t>PO</a:t>
            </a:r>
            <a:r>
              <a:rPr b="0" lang="en-US" sz="3800" spc="-1" strike="noStrike" baseline="-20000">
                <a:solidFill>
                  <a:srgbClr val="000000"/>
                </a:solidFill>
                <a:latin typeface="Palatino"/>
              </a:rPr>
              <a:t>4</a:t>
            </a:r>
            <a:r>
              <a:rPr b="0" lang="en-US" sz="3800" spc="-1" strike="noStrike" baseline="31000">
                <a:solidFill>
                  <a:srgbClr val="000000"/>
                </a:solidFill>
                <a:latin typeface="Palatino"/>
              </a:rPr>
              <a:t>-</a:t>
            </a:r>
            <a:r>
              <a:rPr b="0" lang="en-US" sz="3800" spc="-1" strike="noStrike">
                <a:solidFill>
                  <a:srgbClr val="000000"/>
                </a:solidFill>
                <a:latin typeface="Palatino"/>
              </a:rPr>
              <a:t> + CO</a:t>
            </a:r>
            <a:r>
              <a:rPr b="0" lang="en-US" sz="3800" spc="-1" strike="noStrike" baseline="-20000">
                <a:solidFill>
                  <a:srgbClr val="000000"/>
                </a:solidFill>
                <a:latin typeface="Palatino"/>
              </a:rPr>
              <a:t>3</a:t>
            </a:r>
            <a:r>
              <a:rPr b="0" lang="en-US" sz="3800" spc="-1" strike="noStrike" baseline="31000">
                <a:solidFill>
                  <a:srgbClr val="000000"/>
                </a:solidFill>
                <a:latin typeface="Palatino"/>
              </a:rPr>
              <a:t>2-</a:t>
            </a:r>
            <a:r>
              <a:rPr b="0" lang="en-US" sz="3800" spc="-1" strike="noStrike">
                <a:solidFill>
                  <a:srgbClr val="000000"/>
                </a:solidFill>
                <a:latin typeface="Palatino"/>
              </a:rPr>
              <a:t> --&gt; HCO</a:t>
            </a:r>
            <a:r>
              <a:rPr b="0" lang="en-US" sz="3800" spc="-1" strike="noStrike" baseline="-20000">
                <a:solidFill>
                  <a:srgbClr val="000000"/>
                </a:solidFill>
                <a:latin typeface="Palatino"/>
              </a:rPr>
              <a:t>3</a:t>
            </a:r>
            <a:r>
              <a:rPr b="0" lang="en-US" sz="3800" spc="-1" strike="noStrike" baseline="31000">
                <a:solidFill>
                  <a:srgbClr val="000000"/>
                </a:solidFill>
                <a:latin typeface="Palatino"/>
              </a:rPr>
              <a:t>-</a:t>
            </a:r>
            <a:r>
              <a:rPr b="0" lang="en-US" sz="3800" spc="-1" strike="noStrike">
                <a:solidFill>
                  <a:srgbClr val="000000"/>
                </a:solidFill>
                <a:latin typeface="Palatino"/>
              </a:rPr>
              <a:t> + HPO</a:t>
            </a:r>
            <a:r>
              <a:rPr b="0" lang="en-US" sz="3800" spc="-1" strike="noStrike" baseline="-20000">
                <a:solidFill>
                  <a:srgbClr val="000000"/>
                </a:solidFill>
                <a:latin typeface="Palatino"/>
              </a:rPr>
              <a:t>4</a:t>
            </a:r>
            <a:r>
              <a:rPr b="0" lang="en-US" sz="3800" spc="-1" strike="noStrike" baseline="31000">
                <a:solidFill>
                  <a:srgbClr val="000000"/>
                </a:solidFill>
                <a:latin typeface="Palatino"/>
              </a:rPr>
              <a:t>2-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marL="650880" indent="-307800">
              <a:lnSpc>
                <a:spcPct val="100000"/>
              </a:lnSpc>
              <a:spcBef>
                <a:spcPts val="3600"/>
              </a:spcBef>
              <a:buClr>
                <a:srgbClr val="000000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Palatino"/>
              </a:rPr>
              <a:t>H</a:t>
            </a:r>
            <a:r>
              <a:rPr b="0" lang="en-US" sz="3800" spc="-1" strike="noStrike" baseline="-20000">
                <a:solidFill>
                  <a:srgbClr val="000000"/>
                </a:solidFill>
                <a:latin typeface="Palatino"/>
              </a:rPr>
              <a:t>2</a:t>
            </a:r>
            <a:r>
              <a:rPr b="0" lang="en-US" sz="3800" spc="-1" strike="noStrike">
                <a:solidFill>
                  <a:srgbClr val="000000"/>
                </a:solidFill>
                <a:latin typeface="Palatino"/>
              </a:rPr>
              <a:t>O + SO</a:t>
            </a:r>
            <a:r>
              <a:rPr b="0" lang="en-US" sz="3800" spc="-1" strike="noStrike" baseline="-20000">
                <a:solidFill>
                  <a:srgbClr val="000000"/>
                </a:solidFill>
                <a:latin typeface="Palatino"/>
              </a:rPr>
              <a:t>3</a:t>
            </a:r>
            <a:r>
              <a:rPr b="0" lang="en-US" sz="3800" spc="-1" strike="noStrike" baseline="31000">
                <a:solidFill>
                  <a:srgbClr val="000000"/>
                </a:solidFill>
                <a:latin typeface="Palatino"/>
              </a:rPr>
              <a:t>2-</a:t>
            </a:r>
            <a:r>
              <a:rPr b="0" lang="en-US" sz="3800" spc="-1" strike="noStrike">
                <a:solidFill>
                  <a:srgbClr val="000000"/>
                </a:solidFill>
                <a:latin typeface="Palatino"/>
              </a:rPr>
              <a:t> --&gt; OH</a:t>
            </a:r>
            <a:r>
              <a:rPr b="0" lang="en-US" sz="3800" spc="-1" strike="noStrike" baseline="31000">
                <a:solidFill>
                  <a:srgbClr val="000000"/>
                </a:solidFill>
                <a:latin typeface="Palatino"/>
              </a:rPr>
              <a:t>-</a:t>
            </a:r>
            <a:r>
              <a:rPr b="0" lang="en-US" sz="3800" spc="-1" strike="noStrike">
                <a:solidFill>
                  <a:srgbClr val="000000"/>
                </a:solidFill>
                <a:latin typeface="Palatino"/>
              </a:rPr>
              <a:t> + HSO</a:t>
            </a:r>
            <a:r>
              <a:rPr b="0" lang="en-US" sz="3800" spc="-1" strike="noStrike" baseline="-20000">
                <a:solidFill>
                  <a:srgbClr val="000000"/>
                </a:solidFill>
                <a:latin typeface="Palatino"/>
              </a:rPr>
              <a:t>3</a:t>
            </a:r>
            <a:r>
              <a:rPr b="0" lang="en-US" sz="3800" spc="-1" strike="noStrike" baseline="31000">
                <a:solidFill>
                  <a:srgbClr val="000000"/>
                </a:solidFill>
                <a:latin typeface="Palatino"/>
              </a:rPr>
              <a:t>-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3f3f3f"/>
                </a:solidFill>
                <a:latin typeface="Herculanum"/>
              </a:rPr>
              <a:t>19.4 Neutralization Reactions</a:t>
            </a: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1211580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89040" indent="-30816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1536840"/>
                <a:tab algn="l" pos="198108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Acid-base Reactions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1" marL="1044720" indent="-30816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1536840"/>
                <a:tab algn="l" pos="198108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Mixing strong acids w/ strong bases will produce a salt and water.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1" marL="1044720" indent="-30816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1536840"/>
                <a:tab algn="l" pos="198108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The final product will be neutral as long as the correct mole:mole relationship is followed.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lvl="1" marL="1044720" indent="-30816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1536840"/>
                <a:tab algn="l" pos="198108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HCl + NaOH --&gt; NaCl + H</a:t>
            </a:r>
            <a:r>
              <a:rPr b="0" lang="en-US" sz="3800" spc="-1" strike="noStrike" baseline="-22000">
                <a:solidFill>
                  <a:srgbClr val="5f7bae"/>
                </a:solidFill>
                <a:latin typeface="Palatino"/>
              </a:rPr>
              <a:t>2</a:t>
            </a: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O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3f3f3f"/>
                </a:solidFill>
                <a:latin typeface="Herculanum"/>
              </a:rPr>
              <a:t>Titration</a:t>
            </a: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1211580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89040" indent="-30816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153684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Using a buret to add acid to a base to find the equivalence point (where a color change occurs)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marL="689040" indent="-30816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153684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The will allow the [base] to be determined because the [A] is already known.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marL="689040" indent="-30816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153684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99"/>
                </a:solidFill>
                <a:uFillTx/>
                <a:latin typeface="Palatino"/>
              </a:rPr>
              <a:t>Titration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31280" y="23760"/>
            <a:ext cx="12115800" cy="161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3f3f3f"/>
                </a:solidFill>
                <a:latin typeface="Herculanum"/>
              </a:rPr>
              <a:t>Steps of Titration</a:t>
            </a: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31280" y="1634760"/>
            <a:ext cx="12115800" cy="796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89040" indent="-30816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153684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A known [A] is added to a flask (standard solution)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marL="689040" indent="-30816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153684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Several drops of an indicator are added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  <a:p>
            <a:pPr marL="689040" indent="-30816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153684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Measured values of base are mixed with the acid until a </a:t>
            </a:r>
            <a:r>
              <a:rPr b="0" lang="en-US" sz="3800" spc="-1" strike="noStrike" u="sng">
                <a:solidFill>
                  <a:srgbClr val="5f7bae"/>
                </a:solidFill>
                <a:uFillTx/>
                <a:latin typeface="Times New Roman Bold Italic"/>
                <a:ea typeface="Times New Roman Bold Italic"/>
              </a:rPr>
              <a:t>slight</a:t>
            </a: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 color change is noticed. (end point)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25400" y="329760"/>
            <a:ext cx="11048760" cy="1079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3f3f3f"/>
                </a:solidFill>
                <a:latin typeface="Herculanum"/>
              </a:rPr>
              <a:t>Calculating unknown [B]</a:t>
            </a:r>
            <a:br>
              <a:rPr sz="7600"/>
            </a:b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663560" y="1294920"/>
            <a:ext cx="11049120" cy="7318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82680" indent="-343080">
              <a:lnSpc>
                <a:spcPct val="100000"/>
              </a:lnSpc>
              <a:spcBef>
                <a:spcPts val="3600"/>
              </a:spcBef>
              <a:buClr>
                <a:srgbClr val="5f7bae"/>
              </a:buClr>
              <a:buSzPct val="51000"/>
              <a:buFont typeface="Palatino"/>
              <a:buChar char="•"/>
              <a:tabLst>
                <a:tab algn="l" pos="153684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A 25-mL soln of H</a:t>
            </a:r>
            <a:r>
              <a:rPr b="0" lang="en-US" sz="3800" spc="-1" strike="noStrike" baseline="-22000">
                <a:solidFill>
                  <a:srgbClr val="5f7bae"/>
                </a:solidFill>
                <a:latin typeface="Palatino"/>
              </a:rPr>
              <a:t>2</a:t>
            </a: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SO</a:t>
            </a:r>
            <a:r>
              <a:rPr b="0" lang="en-US" sz="3800" spc="-1" strike="noStrike" baseline="-22000">
                <a:solidFill>
                  <a:srgbClr val="5f7bae"/>
                </a:solidFill>
                <a:latin typeface="Palatino"/>
              </a:rPr>
              <a:t>4</a:t>
            </a: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 is completely neutralized by 18 mL of 1.0 M NaOH.  What is the concentration of the H</a:t>
            </a:r>
            <a:r>
              <a:rPr b="0" lang="en-US" sz="3800" spc="-1" strike="noStrike" baseline="-22000">
                <a:solidFill>
                  <a:srgbClr val="5f7bae"/>
                </a:solidFill>
                <a:latin typeface="Palatino"/>
              </a:rPr>
              <a:t>2</a:t>
            </a: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SO</a:t>
            </a:r>
            <a:r>
              <a:rPr b="0" lang="en-US" sz="3800" spc="-1" strike="noStrike" baseline="-22000">
                <a:solidFill>
                  <a:srgbClr val="5f7bae"/>
                </a:solidFill>
                <a:latin typeface="Palatino"/>
              </a:rPr>
              <a:t>4</a:t>
            </a:r>
            <a:r>
              <a:rPr b="0" lang="en-US" sz="3800" spc="-1" strike="noStrike">
                <a:solidFill>
                  <a:srgbClr val="5f7bae"/>
                </a:solidFill>
                <a:latin typeface="Palatino"/>
              </a:rPr>
              <a:t> soln?</a:t>
            </a:r>
            <a:endParaRPr b="0" lang="en-US" sz="38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